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EF0-BB96-471C-B19F-F7C6AC26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791-8BF3-4435-BA75-3CD686B0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D95-D707-4CCB-BF65-5AD32CEF3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9308-5FD9-4CB3-AF95-0887A1C4D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E197-4A5E-4E54-8363-F4B92F5F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A7A-12A1-462F-9E7D-68902827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CCF-2600-402F-B30D-F5177A5E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096-197D-4E9A-9832-3A8A811A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541-CD21-4B10-828A-6D5C81C9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0A6-2B89-407A-8736-9FE6FB9C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559-9228-412F-8E2F-7D735366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061-3652-4FF5-B75F-531E5E0B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AA5F-1E67-40CB-9F2D-B7CA12F8B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reemind.sourceforge.net/FreeMind-computer-knowledge.png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289160"/>
            <a:ext cx="8445600" cy="29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evision, Study, and Exam Skil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4578120"/>
            <a:ext cx="661536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nie Bl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nifer.blake@manchester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Exam techniques (that you can use to revise)--</a:t>
            </a:r>
            <a:r>
              <a:rPr b="1" lang="en-US" sz="4300" spc="-1" strike="noStrike" u="sng">
                <a:solidFill>
                  <a:srgbClr val="000000"/>
                </a:solidFill>
                <a:uFillTx/>
                <a:latin typeface="Arial"/>
              </a:rPr>
              <a:t>RUNLA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r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under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--nu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—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-add detai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-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y it is not possible, using a single telescope, to directly detect an extra-solar planet by the visible light reflected from its 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aw a Hertzsprung-Russell diagram, clearly labelling the axes. Show the main sequence and regions on the diagram where red giants, blue super-giants, and white dwarfs are loc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Times New Roman"/>
              </a:rPr>
              <a:t>Further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swer the “easiest” questions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ttempt every ques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ave ten minutes (or more) at the end to check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f you get stuck, move on, often the answer will seem more obvious later (and sometimes is found later in the exam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Key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'Times New Roman'"/>
              </a:rPr>
              <a:t>Build relaxation time into your revision schedul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'Times New Roman'"/>
              </a:rPr>
              <a:t>Fear is normal – adrenalin can be usefu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'Times New Roman'"/>
              </a:rPr>
              <a:t>Get an early nigh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'Times New Roman'"/>
              </a:rPr>
              <a:t>Make sure you have breakfas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'Times New Roman'"/>
              </a:rPr>
              <a:t>Be on time (or early if possib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'Times New Roman'"/>
              </a:rPr>
              <a:t>Make sure your exam kit is comple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'Times New Roman'"/>
              </a:rPr>
              <a:t>Read the paper carefully!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Key Poi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'Times New Roman'"/>
              </a:rPr>
              <a:t>First 10 minute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Check instruction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Put your name/student number on the paper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Read the question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Work out your panic strategies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'Times New Roman'"/>
              </a:rPr>
              <a:t>After the exam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Avoid the post-mortem, especially if you still have more exam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Make a note of anything you might need to look up before other exam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Celebrate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'Times New Roman'"/>
              </a:rPr>
              <a:t>Relax, sleep well, eat well, and exercise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Revision-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econd loo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a time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purposefully) learn something ne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3. Have a pl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4. Gather your resou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Arial"/>
              </a:rPr>
              <a:t>Resources--What do you have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ject resourc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) cours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) syllab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) past pap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) what el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) other students in the cou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) lecturers/academic advis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) family and frie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       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) who el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Arial"/>
              </a:rPr>
              <a:t>Where to begin?   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rainstor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Where do you feel most confiden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       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re do you feel most nervou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        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did you leave out?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Active Revis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          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out active, planned, revision, we tend to forget over 80% of what we have learned within three week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Timetabl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Make sure you have figured out when your best times to study are. (Are you a morning person? Do you study better after a meal? Do you need to exercise first?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         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         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 u="sng">
                <a:solidFill>
                  <a:srgbClr val="000000"/>
                </a:solidFill>
                <a:uFillTx/>
                <a:latin typeface="Times New Roman"/>
              </a:rPr>
              <a:t>K W 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o we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kn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o we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want to kno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have we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learned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Arial"/>
              </a:rPr>
              <a:t>Some tips and trick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'Times New Roman'"/>
              </a:rPr>
              <a:t>SQP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'Times New Roman'"/>
              </a:rPr>
              <a:t>Survey</a:t>
            </a: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--Gather together your notes and do a general review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'Times New Roman'"/>
              </a:rPr>
              <a:t>Question</a:t>
            </a: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--How do things connect? Reflective Learning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'Times New Roman'"/>
              </a:rPr>
              <a:t>Predict</a:t>
            </a: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--What do you think will be on the exam? What format will the questions take?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'Times New Roman'"/>
              </a:rPr>
              <a:t>Plan</a:t>
            </a: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--What do you need to do to get ready?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'Times New Roman'"/>
              </a:rPr>
              <a:t>Prepare</a:t>
            </a: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--Gather everything you need in one place. Make an anxiety plan for the exam itself.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'Times New Roman'"/>
              </a:rPr>
              <a:t>Practice</a:t>
            </a: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--Revise, revise, revi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Study Hel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7680" y="1217520"/>
            <a:ext cx="966456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d-webs (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reemi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ex C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nell Notes (see exampl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'Times New Roman'"/>
              </a:rPr>
              <a:t>Study groups/ Revision syndica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'Times New Roman'"/>
              </a:rPr>
              <a:t>Study partnershi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'Times New Roman'"/>
              </a:rPr>
              <a:t>Simultaneous revis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'Times New Roman'"/>
              </a:rPr>
              <a:t>Active recal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'Times New Roman'"/>
              </a:rPr>
              <a:t>Timed wri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rial"/>
              </a:rPr>
              <a:t>How do you learn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ditory (au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nesthe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re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ote-taking, summaries, Cornell Notes, mind-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ditory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flashcards (repeating the questions and answers outloud), study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nesthetic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ind-maps, Cornell Notes, puzz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 u="sng">
                <a:solidFill>
                  <a:srgbClr val="000000"/>
                </a:solidFill>
                <a:uFillTx/>
                <a:latin typeface="'Times New Roman'"/>
              </a:rPr>
              <a:t>Common pitfal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Leaving it until the last minut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Reading through the same notes over and over again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Writing out notes over and over again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Writing out essays and learning them by heart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Procrastina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Can’t force yourself to stud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Panic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Boredom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Too many other priorities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'Times New Roman'"/>
              </a:rPr>
              <a:t>Stopping too soo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Bakri</cp:lastModifiedBy>
  <dcterms:modified xsi:type="dcterms:W3CDTF">2013-01-15T05:37:28Z</dcterms:modified>
  <cp:revision>3</cp:revision>
  <dc:subject/>
  <dc:title>PowerPoint Presentation</dc:title>
</cp:coreProperties>
</file>